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655-BA60-4F44-9B12-06D4EFB1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FED-D892-47FF-98F4-F3530686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319-C373-45A0-9B0E-87055B8C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B16-53F6-46A2-B592-422D88B0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220-00EA-4658-816C-13F901DE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900-6B3A-4516-BA80-188ADEE7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03-2F4F-43C3-A3BE-D819C36A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92B-358D-4500-A8D4-61E7574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C6F-C82D-4D5C-A5FD-09B9BF0B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A85-775B-495E-BF9D-6002C954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A3D-5400-4A1B-87D0-50410F4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30A-6E0F-4858-810A-706E9EF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9B7-0711-4248-B160-23305F4BBB4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 PAROLE…QUANTE PA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682560" y="98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Non tutte le parolesono ugualmente presenti  e conosciute da tutti…alcune sono rare, altre poco frequanti altre specislistiche…vedi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2340000" y="2492280"/>
            <a:ext cx="3786120" cy="24051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9"/>
          <p:cNvSpPr/>
          <p:nvPr/>
        </p:nvSpPr>
        <p:spPr>
          <a:xfrm rot="5400000">
            <a:off x="4284720" y="4724640"/>
            <a:ext cx="2016000" cy="1584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132000" y="21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fond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95280" y="40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 alto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227640" y="4076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d alta dispon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300720" y="5589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muni e non com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79280" y="58053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Tecnicis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 flipH="1" rot="16200000">
            <a:off x="2194200" y="4724280"/>
            <a:ext cx="2016000" cy="1584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ocuments"/>
          <p:cNvSpPr/>
          <p:nvPr/>
        </p:nvSpPr>
        <p:spPr>
          <a:xfrm>
            <a:off x="571680" y="1285920"/>
            <a:ext cx="3652560" cy="4887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258920" y="476280"/>
            <a:ext cx="66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OBSOLETE, RAR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asellaDiTesto 9"/>
          <p:cNvSpPr/>
          <p:nvPr/>
        </p:nvSpPr>
        <p:spPr>
          <a:xfrm>
            <a:off x="1643040" y="371484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10"/>
          <p:cNvSpPr/>
          <p:nvPr/>
        </p:nvSpPr>
        <p:spPr>
          <a:xfrm>
            <a:off x="1297080" y="3000240"/>
            <a:ext cx="18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13.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llaDiTesto 12"/>
          <p:cNvSpPr/>
          <p:nvPr/>
        </p:nvSpPr>
        <p:spPr>
          <a:xfrm>
            <a:off x="4929120" y="2357280"/>
            <a:ext cx="365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no parole che si usavano tanto tempo fa, oggi “fuori moda”, come la gonna lunga e a pallonc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arentesi graffa chiusa 13"/>
          <p:cNvSpPr/>
          <p:nvPr/>
        </p:nvSpPr>
        <p:spPr>
          <a:xfrm>
            <a:off x="4500720" y="1785960"/>
            <a:ext cx="357120" cy="33577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3357720"/>
              <a:gd name="textAreaBottom" fmla="*/ 3348720 h 335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j0299125"/>
          <p:cNvPicPr/>
          <p:nvPr/>
        </p:nvPicPr>
        <p:blipFill>
          <a:blip r:embed="rId1"/>
          <a:stretch/>
        </p:blipFill>
        <p:spPr>
          <a:xfrm>
            <a:off x="1182600" y="2127240"/>
            <a:ext cx="2212920" cy="3627360"/>
          </a:xfrm>
          <a:prstGeom prst="rect">
            <a:avLst/>
          </a:prstGeom>
          <a:ln w="0">
            <a:noFill/>
          </a:ln>
        </p:spPr>
      </p:pic>
      <p:sp>
        <p:nvSpPr>
          <p:cNvPr id="115" name="Fumetto 3 8"/>
          <p:cNvSpPr/>
          <p:nvPr/>
        </p:nvSpPr>
        <p:spPr>
          <a:xfrm>
            <a:off x="3571920" y="1428840"/>
            <a:ext cx="4357800" cy="2571840"/>
          </a:xfrm>
          <a:prstGeom prst="wedgeEllipseCallout">
            <a:avLst>
              <a:gd name="adj1" fmla="val -65087"/>
              <a:gd name="adj2" fmla="val 89888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bbambol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al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4764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 SPECIALISTICHE, TECNICI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s"/>
          <p:cNvSpPr/>
          <p:nvPr/>
        </p:nvSpPr>
        <p:spPr>
          <a:xfrm>
            <a:off x="611280" y="1341360"/>
            <a:ext cx="3652920" cy="488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572000" y="1268280"/>
            <a:ext cx="287280" cy="4753080"/>
          </a:xfrm>
          <a:custGeom>
            <a:avLst/>
            <a:gdLst>
              <a:gd name="textAreaLeft" fmla="*/ 0 w 287280"/>
              <a:gd name="textAreaRight" fmla="*/ 103680 w 287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20056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258920" y="304812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11.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200560" y="2584440"/>
            <a:ext cx="34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ono parole speciali, le parole dei linguaggi tecnico-scientif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7"/>
          <p:cNvSpPr/>
          <p:nvPr/>
        </p:nvSpPr>
        <p:spPr>
          <a:xfrm>
            <a:off x="1500120" y="442908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347120" y="8571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 di parole specialistiche…i parol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23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0299125"/>
          <p:cNvPicPr/>
          <p:nvPr/>
        </p:nvPicPr>
        <p:blipFill>
          <a:blip r:embed="rId1"/>
          <a:stretch/>
        </p:blipFill>
        <p:spPr>
          <a:xfrm>
            <a:off x="1182600" y="2127240"/>
            <a:ext cx="2212920" cy="3627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3995640" y="1484280"/>
            <a:ext cx="4464000" cy="3025800"/>
          </a:xfrm>
          <a:prstGeom prst="wedgeEllipseCallout">
            <a:avLst>
              <a:gd name="adj1" fmla="val -74444"/>
              <a:gd name="adj2" fmla="val 69680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ibu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ett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e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nda 1 3"/>
          <p:cNvSpPr/>
          <p:nvPr/>
        </p:nvSpPr>
        <p:spPr>
          <a:xfrm>
            <a:off x="3571920" y="1785960"/>
            <a:ext cx="4500360" cy="3786120"/>
          </a:xfrm>
          <a:custGeom>
            <a:avLst/>
            <a:gdLst>
              <a:gd name="textAreaLeft" fmla="*/ 0 w 4500360"/>
              <a:gd name="textAreaRight" fmla="*/ 4500360 w 4500360"/>
              <a:gd name="textAreaTop" fmla="*/ 946440 h 3786120"/>
              <a:gd name="textAreaBottom" fmla="*/ 2839680 h 3786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00080" y="2857680"/>
            <a:ext cx="2130480" cy="1962000"/>
          </a:xfrm>
          <a:prstGeom prst="rect">
            <a:avLst/>
          </a:prstGeom>
          <a:ln w="0">
            <a:noFill/>
          </a:ln>
        </p:spPr>
      </p:pic>
      <p:sp>
        <p:nvSpPr>
          <p:cNvPr id="129" name="CasellaDiTesto 4"/>
          <p:cNvSpPr/>
          <p:nvPr/>
        </p:nvSpPr>
        <p:spPr>
          <a:xfrm>
            <a:off x="3857760" y="264312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Prendi dalla tua valigia solo questi ultimi, i tecnicismi, i paroloni e…preparati a farne un largo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5"/>
          <p:cNvSpPr/>
          <p:nvPr/>
        </p:nvSpPr>
        <p:spPr>
          <a:xfrm>
            <a:off x="3857760" y="6072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Buon lavo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ocuments"/>
          <p:cNvSpPr/>
          <p:nvPr/>
        </p:nvSpPr>
        <p:spPr>
          <a:xfrm>
            <a:off x="611280" y="1341360"/>
            <a:ext cx="3652920" cy="488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71640" y="260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  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258920" y="30481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219640" y="1916280"/>
            <a:ext cx="309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no parole usatissime, necessarie per formulare ogni testo orale o scr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219640" y="4149720"/>
            <a:ext cx="29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 esse  costruisci il 90% dei tuoi disc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940360" y="630864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T. De Mauro-1980-Guida all’uso delle par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4572000" y="1413000"/>
            <a:ext cx="792000" cy="4176720"/>
          </a:xfrm>
          <a:custGeom>
            <a:avLst/>
            <a:gdLst>
              <a:gd name="textAreaLeft" fmla="*/ 0 w 792000"/>
              <a:gd name="textAreaRight" fmla="*/ 285840 w 792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8"/>
          <p:cNvSpPr/>
          <p:nvPr/>
        </p:nvSpPr>
        <p:spPr>
          <a:xfrm>
            <a:off x="1714680" y="4500720"/>
            <a:ext cx="121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338840" y="85716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 di parole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23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j0299125"/>
          <p:cNvPicPr/>
          <p:nvPr/>
        </p:nvPicPr>
        <p:blipFill>
          <a:blip r:embed="rId1"/>
          <a:stretch/>
        </p:blipFill>
        <p:spPr>
          <a:xfrm>
            <a:off x="1182600" y="2127240"/>
            <a:ext cx="2212920" cy="3627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995640" y="1484280"/>
            <a:ext cx="4464000" cy="3025800"/>
          </a:xfrm>
          <a:prstGeom prst="wedgeEllipseCallout">
            <a:avLst>
              <a:gd name="adj1" fmla="val -72759"/>
              <a:gd name="adj2" fmla="val 84259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ver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: fare- dire-dare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I nom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 mamma- ciao-cosa- olio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Le parole grammatic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 gli articoli- le preposizioni- le congi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ocuments"/>
          <p:cNvSpPr/>
          <p:nvPr/>
        </p:nvSpPr>
        <p:spPr>
          <a:xfrm>
            <a:off x="611280" y="1341360"/>
            <a:ext cx="3652920" cy="488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258920" y="30481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763640" y="260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   D’ALTO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292720" y="206064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no parole frequenti e comuni, ma meno frequenti e comuni delle parole fondamen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289840" y="412416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anno il 6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 probabilità di essere us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4572000" y="1268280"/>
            <a:ext cx="287280" cy="4753080"/>
          </a:xfrm>
          <a:custGeom>
            <a:avLst/>
            <a:gdLst>
              <a:gd name="textAreaLeft" fmla="*/ 0 w 287280"/>
              <a:gd name="textAreaRight" fmla="*/ 103680 w 287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7"/>
          <p:cNvSpPr/>
          <p:nvPr/>
        </p:nvSpPr>
        <p:spPr>
          <a:xfrm>
            <a:off x="1714680" y="435780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8"/>
          <p:cNvSpPr/>
          <p:nvPr/>
        </p:nvSpPr>
        <p:spPr>
          <a:xfrm>
            <a:off x="3995640" y="1484280"/>
            <a:ext cx="4464000" cy="3025800"/>
          </a:xfrm>
          <a:prstGeom prst="wedgeEllipseCallout">
            <a:avLst>
              <a:gd name="adj1" fmla="val -72759"/>
              <a:gd name="adj2" fmla="val 84259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raz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ger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lleg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mp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335960" y="857160"/>
            <a:ext cx="467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 di parole ad alto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23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j0299125"/>
          <p:cNvPicPr/>
          <p:nvPr/>
        </p:nvPicPr>
        <p:blipFill>
          <a:blip r:embed="rId1"/>
          <a:stretch/>
        </p:blipFill>
        <p:spPr>
          <a:xfrm>
            <a:off x="1182600" y="2127240"/>
            <a:ext cx="2212920" cy="362736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/>
          <p:cNvSpPr/>
          <p:nvPr/>
        </p:nvSpPr>
        <p:spPr>
          <a:xfrm>
            <a:off x="4000680" y="1500120"/>
            <a:ext cx="4464000" cy="3025800"/>
          </a:xfrm>
          <a:prstGeom prst="wedgeEllipseCallout">
            <a:avLst>
              <a:gd name="adj1" fmla="val -72759"/>
              <a:gd name="adj2" fmla="val 84259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raz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ger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eg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m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ocuments"/>
          <p:cNvSpPr/>
          <p:nvPr/>
        </p:nvSpPr>
        <p:spPr>
          <a:xfrm>
            <a:off x="611280" y="1341360"/>
            <a:ext cx="3652920" cy="488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572000" y="1268280"/>
            <a:ext cx="287280" cy="4753080"/>
          </a:xfrm>
          <a:custGeom>
            <a:avLst/>
            <a:gdLst>
              <a:gd name="textAreaLeft" fmla="*/ 0 w 287280"/>
              <a:gd name="textAreaRight" fmla="*/ 103680 w 287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003640" y="2833560"/>
            <a:ext cx="369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ono parole che abbiamo in tes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he conosciamo ma non  usiamo spesso. Al bisogno però le tiriamo fuori senza alcuno sforz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258920" y="47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DI ALTA DISPON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258920" y="30481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6"/>
          <p:cNvSpPr/>
          <p:nvPr/>
        </p:nvSpPr>
        <p:spPr>
          <a:xfrm>
            <a:off x="1643040" y="4429080"/>
            <a:ext cx="12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72000" y="1285920"/>
            <a:ext cx="287280" cy="4753080"/>
          </a:xfrm>
          <a:custGeom>
            <a:avLst/>
            <a:gdLst>
              <a:gd name="textAreaLeft" fmla="*/ 0 w 287280"/>
              <a:gd name="textAreaRight" fmla="*/ 103680 w 287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uppo 5"/>
          <p:cNvGrpSpPr/>
          <p:nvPr/>
        </p:nvGrpSpPr>
        <p:grpSpPr>
          <a:xfrm>
            <a:off x="1182600" y="714240"/>
            <a:ext cx="7277040" cy="5032440"/>
            <a:chOff x="1182600" y="714240"/>
            <a:chExt cx="7277040" cy="5032440"/>
          </a:xfrm>
        </p:grpSpPr>
        <p:sp>
          <p:nvSpPr>
            <p:cNvPr id="83" name="Text Box 4"/>
            <p:cNvSpPr/>
            <p:nvPr/>
          </p:nvSpPr>
          <p:spPr>
            <a:xfrm>
              <a:off x="1214280" y="714240"/>
              <a:ext cx="59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Esempi di parole ad alta disponibilit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1239840" y="20790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7" descr="j0299125"/>
            <p:cNvPicPr/>
            <p:nvPr/>
          </p:nvPicPr>
          <p:blipFill>
            <a:blip r:embed="rId1"/>
            <a:stretch/>
          </p:blipFill>
          <p:spPr>
            <a:xfrm>
              <a:off x="1182600" y="2125080"/>
              <a:ext cx="2212560" cy="36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AutoShape 8"/>
            <p:cNvSpPr/>
            <p:nvPr/>
          </p:nvSpPr>
          <p:spPr>
            <a:xfrm>
              <a:off x="3995640" y="1482840"/>
              <a:ext cx="4464000" cy="3021120"/>
            </a:xfrm>
            <a:prstGeom prst="wedgeEllipseCallout">
              <a:avLst>
                <a:gd name="adj1" fmla="val -72759"/>
                <a:gd name="adj2" fmla="val 84259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Scacch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Ela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Aceto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i="1" lang="it-IT" sz="1800" spc="-1" strike="noStrike">
                  <a:solidFill>
                    <a:srgbClr val="ffffff"/>
                  </a:solidFill>
                  <a:latin typeface="Arial"/>
                </a:rPr>
                <a:t>in effetti se non ami l’insalata non hai molte occasioni di usare questa par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uppo 8"/>
          <p:cNvGrpSpPr/>
          <p:nvPr/>
        </p:nvGrpSpPr>
        <p:grpSpPr>
          <a:xfrm>
            <a:off x="1182600" y="714240"/>
            <a:ext cx="7277040" cy="5032440"/>
            <a:chOff x="1182600" y="714240"/>
            <a:chExt cx="7277040" cy="5032440"/>
          </a:xfrm>
        </p:grpSpPr>
        <p:sp>
          <p:nvSpPr>
            <p:cNvPr id="88" name="Text Box 4"/>
            <p:cNvSpPr/>
            <p:nvPr/>
          </p:nvSpPr>
          <p:spPr>
            <a:xfrm>
              <a:off x="1214280" y="714240"/>
              <a:ext cx="596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ff"/>
                  </a:solidFill>
                  <a:latin typeface="Arial"/>
                </a:rPr>
                <a:t>Esempi di parole ad alta disponibilit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1239840" y="20790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j0299125"/>
            <p:cNvPicPr/>
            <p:nvPr/>
          </p:nvPicPr>
          <p:blipFill>
            <a:blip r:embed="rId2"/>
            <a:stretch/>
          </p:blipFill>
          <p:spPr>
            <a:xfrm>
              <a:off x="1182600" y="2125080"/>
              <a:ext cx="2212560" cy="36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8"/>
            <p:cNvSpPr/>
            <p:nvPr/>
          </p:nvSpPr>
          <p:spPr>
            <a:xfrm>
              <a:off x="3995640" y="1482840"/>
              <a:ext cx="4464000" cy="3021120"/>
            </a:xfrm>
            <a:prstGeom prst="wedgeEllipseCallout">
              <a:avLst>
                <a:gd name="adj1" fmla="val -72759"/>
                <a:gd name="adj2" fmla="val 84259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Scacch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Ela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</a:rPr>
                <a:t>Aceto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i="1" lang="it-IT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i="1" lang="it-IT" sz="1800" spc="-1" strike="noStrike">
                  <a:solidFill>
                    <a:srgbClr val="ffffff"/>
                  </a:solidFill>
                  <a:latin typeface="Arial"/>
                </a:rPr>
                <a:t>in effetti se non ami l’insalata non hai molte occasioni di usare questa par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258920" y="47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ROLE COMUNI E A BASSO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s"/>
          <p:cNvSpPr/>
          <p:nvPr/>
        </p:nvSpPr>
        <p:spPr>
          <a:xfrm>
            <a:off x="611280" y="1341360"/>
            <a:ext cx="3652920" cy="488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40- 47.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00760" y="2071800"/>
            <a:ext cx="361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arole non di base e non specialistiche ma in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000760" y="4429080"/>
            <a:ext cx="35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arole a basso uso,non comu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1503000" y="421488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22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12"/>
          <p:cNvSpPr/>
          <p:nvPr/>
        </p:nvSpPr>
        <p:spPr>
          <a:xfrm>
            <a:off x="1434240" y="27860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sellaDiTesto 13"/>
          <p:cNvSpPr/>
          <p:nvPr/>
        </p:nvSpPr>
        <p:spPr>
          <a:xfrm>
            <a:off x="1857240" y="4857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arentesi graffa chiusa 17"/>
          <p:cNvSpPr/>
          <p:nvPr/>
        </p:nvSpPr>
        <p:spPr>
          <a:xfrm>
            <a:off x="4572000" y="2071800"/>
            <a:ext cx="357120" cy="15001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500120"/>
              <a:gd name="textAreaBottom" fmla="*/ 149112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arentesi graffa chiusa 18"/>
          <p:cNvSpPr/>
          <p:nvPr/>
        </p:nvSpPr>
        <p:spPr>
          <a:xfrm>
            <a:off x="4643280" y="4143240"/>
            <a:ext cx="357480" cy="15004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500480"/>
              <a:gd name="textAreaBottom" fmla="*/ 149148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5"/>
                  <a:pt x="10800" y="429"/>
                </a:cubicBezTo>
                <a:lnTo>
                  <a:pt x="10800" y="10371"/>
                </a:lnTo>
                <a:cubicBezTo>
                  <a:pt x="10800" y="10586"/>
                  <a:pt x="16200" y="10800"/>
                  <a:pt x="21600" y="10800"/>
                </a:cubicBezTo>
                <a:cubicBezTo>
                  <a:pt x="16200" y="10800"/>
                  <a:pt x="10800" y="11015"/>
                  <a:pt x="10800" y="11229"/>
                </a:cubicBezTo>
                <a:lnTo>
                  <a:pt x="10800" y="21171"/>
                </a:lnTo>
                <a:cubicBezTo>
                  <a:pt x="10800" y="2138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umetto 3 5"/>
          <p:cNvSpPr/>
          <p:nvPr/>
        </p:nvSpPr>
        <p:spPr>
          <a:xfrm>
            <a:off x="4429080" y="4286160"/>
            <a:ext cx="2857680" cy="1357560"/>
          </a:xfrm>
          <a:prstGeom prst="wedgeEllipseCallout">
            <a:avLst>
              <a:gd name="adj1" fmla="val -105194"/>
              <a:gd name="adj2" fmla="val 12143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z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nte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45320" y="85716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sempi di parole comuni e non com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3984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j0299125"/>
          <p:cNvPicPr/>
          <p:nvPr/>
        </p:nvPicPr>
        <p:blipFill>
          <a:blip r:embed="rId1"/>
          <a:stretch/>
        </p:blipFill>
        <p:spPr>
          <a:xfrm>
            <a:off x="1182600" y="2127240"/>
            <a:ext cx="2212920" cy="3627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8"/>
          <p:cNvSpPr/>
          <p:nvPr/>
        </p:nvSpPr>
        <p:spPr>
          <a:xfrm>
            <a:off x="3857760" y="1643040"/>
            <a:ext cx="2786040" cy="1428840"/>
          </a:xfrm>
          <a:prstGeom prst="wedgeEllipseCallout">
            <a:avLst>
              <a:gd name="adj1" fmla="val -80712"/>
              <a:gd name="adj2" fmla="val 174115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utovet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9"/>
          <p:cNvSpPr/>
          <p:nvPr/>
        </p:nvSpPr>
        <p:spPr>
          <a:xfrm>
            <a:off x="6786720" y="207180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llaDiTesto 10"/>
          <p:cNvSpPr/>
          <p:nvPr/>
        </p:nvSpPr>
        <p:spPr>
          <a:xfrm>
            <a:off x="7572240" y="47149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10:06Z</dcterms:created>
  <dc:creator>renzo causarano</dc:creator>
  <dc:description/>
  <dc:language>en-US</dc:language>
  <cp:lastModifiedBy>naspi</cp:lastModifiedBy>
  <dcterms:modified xsi:type="dcterms:W3CDTF">2009-10-31T10:32:55Z</dcterms:modified>
  <cp:revision>51</cp:revision>
  <dc:subject/>
  <dc:title>Diapositiva 1</dc:title>
</cp:coreProperties>
</file>